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72FA-60CA-41D6-8F0C-DBAE55FE7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5791-BDC2-4A27-8C7F-C5AC6AB02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22AA-1E3A-4C27-9978-FCE8FB690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94BC-C1A1-4048-8FDE-90FC5D24E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A62CD-E4D3-40E6-AD6F-44C29FAD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A3CC8-6151-48E9-8779-8DA48A6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A4BC0-9452-4A6E-8A81-9146B2B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1EA8C-64C5-4492-BD1B-DB6EC428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D7FD-CA9C-4D4D-AD4E-4067961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C9537-ECCA-40E6-BD97-6F5EDE5B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0EA53-F51E-45C2-841E-7E0B1A8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736D-CD3E-49AE-B270-857309F04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DFCF2-F73E-4F62-9C61-F84B688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7D4D0-209B-4FB1-9413-E0CDD84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918B8-2FAD-44C2-ACD2-74C195F5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E26C2-481E-48D8-84D8-F426E677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5937A-3564-4F25-BA51-ABEE5B10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54CB-6A5B-4324-94AD-C254EFAEB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DF56-A070-44D7-AB02-10B312097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4A29-2A08-44AB-A2C4-452276448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C451-AA5B-4C46-877C-200ADF3C4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A387-8470-4C27-9592-C45ACAD72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8528-FB91-49C7-A76F-68A9D6C01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CEFD-B59E-484B-8A2E-B53E5E70B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1032" descr=""/>
          <p:cNvPicPr/>
          <p:nvPr/>
        </p:nvPicPr>
        <p:blipFill>
          <a:blip r:embed="rId2"/>
          <a:stretch/>
        </p:blipFill>
        <p:spPr>
          <a:xfrm>
            <a:off x="8010360" y="6237360"/>
            <a:ext cx="930600" cy="387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33" descr=""/>
          <p:cNvPicPr/>
          <p:nvPr/>
        </p:nvPicPr>
        <p:blipFill>
          <a:blip r:embed="rId3"/>
          <a:stretch/>
        </p:blipFill>
        <p:spPr>
          <a:xfrm>
            <a:off x="0" y="6734160"/>
            <a:ext cx="9144000" cy="1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2"/>
          <p:cNvGraphicFramePr/>
          <p:nvPr/>
        </p:nvGraphicFramePr>
        <p:xfrm>
          <a:off x="0" y="0"/>
          <a:ext cx="9144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11B1D-2F0D-4FC9-8855-581189FD3C9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41324-3585-4EE6-ADEF-DD562AC3E2A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4BA10-929F-4F41-88D2-5E0C87E1A1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xtgenscience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rccsecondaryscience.wikispaces.com/Frameworks+for+NGSS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twillard\Desktop\Picture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Closer Look at a Performance Expectation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8600" y="4876560"/>
            <a:ext cx="85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expectations combine practices, core ideas, and crosscutting concepts into a single statement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at is to be asses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al strategies or objectives for a less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18960" y="1544760"/>
            <a:ext cx="8589960" cy="2950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685800" y="2133720"/>
            <a:ext cx="8077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609480" y="2092320"/>
            <a:ext cx="807732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nstruct and use models to explain that atoms combine to form new substances of varying complexity in terms of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number of atoms and repeating subunits. 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[Clarification Statement: Examples of atoms combining can include Hydrogen 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and Oxygen (O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combining to form hydrogen peroxide 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) or water(H</a:t>
            </a:r>
            <a:r>
              <a:rPr b="1" lang="en-US" sz="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O). [</a:t>
            </a:r>
            <a:r>
              <a:rPr b="1" i="1" lang="en-US" sz="800" spc="-1" strike="noStrike">
                <a:solidFill>
                  <a:srgbClr val="ff0000"/>
                </a:solidFill>
                <a:latin typeface="Tahoma"/>
              </a:rPr>
              <a:t>Assessment Boundary: Restricted to macroscopic interactions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.]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296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eep in Mind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2960" y="132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p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review is more important t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” many or all of the standards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39640" y="374004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eachers, our job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“cover”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28600" y="4873680"/>
            <a:ext cx="87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job is to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” (or reveal) those standar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aking a close look at one set of performance expectation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ty and specif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the three dimensions in the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rence of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hievability and prepared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al implications of the performance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388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The Basics </a:t>
            </a:r>
            <a:br>
              <a:rPr sz="6600"/>
            </a:b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About NGS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1960" y="4970520"/>
            <a:ext cx="697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extgenscience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cindy_w\AppData\Local\Microsoft\Windows\Temporary Internet Files\Content.Outlook\3W1D5MX0\nstapress black.jpg"/>
          <p:cNvPicPr/>
          <p:nvPr/>
        </p:nvPicPr>
        <p:blipFill>
          <a:blip r:embed="rId1"/>
          <a:stretch/>
        </p:blipFill>
        <p:spPr>
          <a:xfrm>
            <a:off x="5548320" y="4105440"/>
            <a:ext cx="1576440" cy="51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A Framework for K-12 Science Edu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2819520" cy="34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4782960" y="2095560"/>
            <a:ext cx="703440" cy="69048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5486400" y="1981080"/>
            <a:ext cx="26668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free PDF form The National Academies Pr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www.nap.e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938840" y="3773520"/>
            <a:ext cx="29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e your own copy fr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148360" y="46054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nsta.org/stor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631800" y="5651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rccsecondaryscience.wikispaces.com/Frameworks+for+NG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ientific and Engineering Practices</a:t>
            </a:r>
            <a:br>
              <a:rPr sz="36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ing questions (for science) and defining problems (for engine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ing and using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 and carrying out investig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ing and interpret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mathematics and computational thi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explanations (for science) and designing solutions (for engine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aging in argument from ev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ts val="3197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ing, evaluating, and communica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457200" y="861840"/>
            <a:ext cx="74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These statements define what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students are expected to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8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osscutting Concep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160" y="210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 and effect: Mechanism and expla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, proportion, and qua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and system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ergy and matter: Flows, cycles, and con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and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and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68240" y="85248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These statements transcend all science content and grade levels.  They are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tools</a:t>
            </a:r>
            <a:r>
              <a:rPr b="1" i="1" lang="en-US" sz="1800" spc="-1" strike="noStrike">
                <a:solidFill>
                  <a:srgbClr val="0070c0"/>
                </a:solidFill>
                <a:latin typeface="Tahoma"/>
              </a:rPr>
              <a:t> that </a:t>
            </a: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Tahoma"/>
              </a:rPr>
              <a:t>enable students to make sense of  cont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isciplinary Core Ide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 and Spac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ineering, Technology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pplication of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isciplinary Core Ide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474516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4208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120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fe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3042720">
                <a:tc>
                  <a:txBody>
                    <a:bodyPr lIns="66600" rIns="66600" tIns="0" bIns="0" anchor="t">
                      <a:noAutofit/>
                    </a:bodyPr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1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om Molecules to Organisms: Structures and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2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osystems: Interactions, Energy, and Dynam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3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redity: Inheritance and Variation of Tr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S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ological Evolution: Unity and Diver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1: Matter and Its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2: Motion and Stability: Forces and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3: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1880" indent="-4618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4: Waves and Their Applications in Technologies for Information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208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120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rth &amp; Space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ineering &amp; 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  <a:tr h="1189440">
                <a:tc>
                  <a:txBody>
                    <a:bodyPr lIns="66600" rIns="66600" tIns="0" bIns="0" anchor="t">
                      <a:noAutofit/>
                    </a:bodyPr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1: Earth’s Place in the Uni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2: Earth’s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87360" indent="-387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3: Earth and Human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S1: Engineering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73120" indent="-5731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S2: Links Among Engineering, Technology, Science, and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Integration of the Three Dimension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3768840" y="1600200"/>
            <a:ext cx="5057640" cy="4635360"/>
            <a:chOff x="3768840" y="1600200"/>
            <a:chExt cx="5057640" cy="4635360"/>
          </a:xfrm>
        </p:grpSpPr>
        <p:pic>
          <p:nvPicPr>
            <p:cNvPr id="108" name="Picture 3" descr=""/>
            <p:cNvPicPr/>
            <p:nvPr/>
          </p:nvPicPr>
          <p:blipFill>
            <a:blip r:embed="rId1"/>
            <a:stretch/>
          </p:blipFill>
          <p:spPr>
            <a:xfrm rot="5400000">
              <a:off x="3949560" y="2818800"/>
              <a:ext cx="4178160" cy="26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4"/>
            <p:cNvSpPr/>
            <p:nvPr/>
          </p:nvSpPr>
          <p:spPr>
            <a:xfrm>
              <a:off x="7112160" y="1904760"/>
              <a:ext cx="17143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ore Idea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Box 5"/>
            <p:cNvSpPr/>
            <p:nvPr/>
          </p:nvSpPr>
          <p:spPr>
            <a:xfrm>
              <a:off x="3768840" y="2209680"/>
              <a:ext cx="15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ractic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Box 6"/>
            <p:cNvSpPr/>
            <p:nvPr/>
          </p:nvSpPr>
          <p:spPr>
            <a:xfrm>
              <a:off x="5226120" y="1600200"/>
              <a:ext cx="18000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rosscutting Concept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82760" y="144792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act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the processes of building and using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re idea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o make sense of the natural and designed world, and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ross cutting conce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 the discipline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83808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228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nside the NGSS Bo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243160" y="1843200"/>
            <a:ext cx="4157640" cy="4449600"/>
          </a:xfrm>
          <a:prstGeom prst="rect">
            <a:avLst/>
          </a:prstGeom>
          <a:ln w="0">
            <a:noFill/>
          </a:ln>
        </p:spPr>
      </p:pic>
      <p:sp>
        <p:nvSpPr>
          <p:cNvPr id="116" name="Right Brace 5"/>
          <p:cNvSpPr/>
          <p:nvPr/>
        </p:nvSpPr>
        <p:spPr>
          <a:xfrm flipH="1">
            <a:off x="2031840" y="1917720"/>
            <a:ext cx="152640" cy="990720"/>
          </a:xfrm>
          <a:custGeom>
            <a:avLst/>
            <a:gdLst>
              <a:gd name="textAreaLeft" fmla="*/ 360 w 152640"/>
              <a:gd name="textAreaRight" fmla="*/ 55440 w 152640"/>
              <a:gd name="textAreaTop" fmla="*/ 3960 h 990720"/>
              <a:gd name="textAreaBottom" fmla="*/ 986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12760" y="2244600"/>
            <a:ext cx="18334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hat is Assessed</a:t>
            </a: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collection of several performance expectations describing what students should be able to do to master this standar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12760" y="3770280"/>
            <a:ext cx="181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oundation 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practices, core disciplinary ideas, and crosscutting concepts from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ramework for K-12 Science Educa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at were used to form the performance expect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ight Brace 8"/>
          <p:cNvSpPr/>
          <p:nvPr/>
        </p:nvSpPr>
        <p:spPr>
          <a:xfrm flipH="1">
            <a:off x="2031840" y="2978280"/>
            <a:ext cx="152640" cy="1976400"/>
          </a:xfrm>
          <a:custGeom>
            <a:avLst/>
            <a:gdLst>
              <a:gd name="textAreaLeft" fmla="*/ 360 w 152640"/>
              <a:gd name="textAreaRight" fmla="*/ 55440 w 152640"/>
              <a:gd name="textAreaTop" fmla="*/ 3960 h 1976400"/>
              <a:gd name="textAreaBottom" fmla="*/ 197244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"/>
                  <a:pt x="10800" y="139"/>
                </a:cubicBezTo>
                <a:lnTo>
                  <a:pt x="10800" y="10661"/>
                </a:lnTo>
                <a:cubicBezTo>
                  <a:pt x="10800" y="10731"/>
                  <a:pt x="16200" y="10800"/>
                  <a:pt x="21600" y="10800"/>
                </a:cubicBezTo>
                <a:cubicBezTo>
                  <a:pt x="16200" y="10800"/>
                  <a:pt x="10800" y="10870"/>
                  <a:pt x="10800" y="10939"/>
                </a:cubicBezTo>
                <a:lnTo>
                  <a:pt x="10800" y="21461"/>
                </a:lnTo>
                <a:cubicBezTo>
                  <a:pt x="10800" y="215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12760" y="5445000"/>
            <a:ext cx="18334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nnection B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ther standards in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Next Generation Science Standards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in the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ommon Core State Standard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that are relat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to this standard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ight Brace 10"/>
          <p:cNvSpPr/>
          <p:nvPr/>
        </p:nvSpPr>
        <p:spPr>
          <a:xfrm flipH="1">
            <a:off x="2028960" y="5014800"/>
            <a:ext cx="155520" cy="123984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39840"/>
              <a:gd name="textAreaBottom" fmla="*/ 1235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6"/>
                </a:cubicBezTo>
                <a:lnTo>
                  <a:pt x="10800" y="10574"/>
                </a:lnTo>
                <a:cubicBezTo>
                  <a:pt x="10800" y="10687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6"/>
                </a:cubicBezTo>
                <a:lnTo>
                  <a:pt x="10800" y="21374"/>
                </a:lnTo>
                <a:cubicBezTo>
                  <a:pt x="10800" y="2148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ounded Rectangle 11"/>
          <p:cNvSpPr/>
          <p:nvPr/>
        </p:nvSpPr>
        <p:spPr>
          <a:xfrm flipV="1">
            <a:off x="2270160" y="2010240"/>
            <a:ext cx="4038480" cy="174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traight Connector 12"/>
          <p:cNvSpPr/>
          <p:nvPr/>
        </p:nvSpPr>
        <p:spPr>
          <a:xfrm flipV="1">
            <a:off x="5657760" y="944280"/>
            <a:ext cx="112392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772320" y="73836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Performance Expectation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 combines practices, core  ideas, and crosscutting concepts together to describe how students can show what they have learne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ounded Rectangle 14"/>
          <p:cNvSpPr/>
          <p:nvPr/>
        </p:nvSpPr>
        <p:spPr>
          <a:xfrm flipV="1">
            <a:off x="2270160" y="3001320"/>
            <a:ext cx="1343160" cy="1981080"/>
          </a:xfrm>
          <a:custGeom>
            <a:avLst/>
            <a:gdLst>
              <a:gd name="textAreaLeft" fmla="*/ 0 w 1343160"/>
              <a:gd name="textAreaRight" fmla="*/ 1343520 w 134316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1856">
                <a:moveTo>
                  <a:pt x="0" y="0"/>
                </a:moveTo>
                <a:arcTo wR="0" hR="0" stAng="16200000" swAng="-5400000"/>
                <a:lnTo>
                  <a:pt x="0" y="31856"/>
                </a:lnTo>
                <a:arcTo wR="0" hR="0" stAng="10800000" swAng="-5400000"/>
                <a:lnTo>
                  <a:pt x="21600" y="3185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3201840" y="738360"/>
            <a:ext cx="30290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itle and Code</a:t>
            </a:r>
            <a:br>
              <a:rPr sz="14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wo sets of performance expectations at different grade levels may use the same name if they focus on the same topic. The code, however, is a unique identifier for each standard based on the grade level, content area, and topic of the standard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ounded Rectangle 16"/>
          <p:cNvSpPr/>
          <p:nvPr/>
        </p:nvSpPr>
        <p:spPr>
          <a:xfrm flipV="1">
            <a:off x="2270160" y="1846440"/>
            <a:ext cx="1616040" cy="101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ounded Rectangle 17"/>
          <p:cNvSpPr/>
          <p:nvPr/>
        </p:nvSpPr>
        <p:spPr>
          <a:xfrm flipV="1">
            <a:off x="3657600" y="3001320"/>
            <a:ext cx="1397160" cy="1981080"/>
          </a:xfrm>
          <a:custGeom>
            <a:avLst/>
            <a:gdLst>
              <a:gd name="textAreaLeft" fmla="*/ 0 w 1397160"/>
              <a:gd name="textAreaRight" fmla="*/ 1397520 w 139716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0625">
                <a:moveTo>
                  <a:pt x="0" y="0"/>
                </a:moveTo>
                <a:arcTo wR="0" hR="0" stAng="16200000" swAng="-5400000"/>
                <a:lnTo>
                  <a:pt x="0" y="30625"/>
                </a:lnTo>
                <a:arcTo wR="0" hR="0" stAng="10800000" swAng="-5400000"/>
                <a:lnTo>
                  <a:pt x="21600" y="3062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ounded Rectangle 18"/>
          <p:cNvSpPr/>
          <p:nvPr/>
        </p:nvSpPr>
        <p:spPr>
          <a:xfrm flipV="1">
            <a:off x="5099040" y="3001320"/>
            <a:ext cx="1273320" cy="1981080"/>
          </a:xfrm>
          <a:custGeom>
            <a:avLst/>
            <a:gdLst>
              <a:gd name="textAreaLeft" fmla="*/ 0 w 1273320"/>
              <a:gd name="textAreaRight" fmla="*/ 1273680 w 127332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21600" h="33603">
                <a:moveTo>
                  <a:pt x="0" y="0"/>
                </a:moveTo>
                <a:arcTo wR="0" hR="0" stAng="16200000" swAng="-5400000"/>
                <a:lnTo>
                  <a:pt x="0" y="33603"/>
                </a:lnTo>
                <a:arcTo wR="0" hR="0" stAng="10800000" swAng="-5400000"/>
                <a:lnTo>
                  <a:pt x="21600" y="336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traight Connector 19"/>
          <p:cNvSpPr/>
          <p:nvPr/>
        </p:nvSpPr>
        <p:spPr>
          <a:xfrm>
            <a:off x="3613320" y="3992400"/>
            <a:ext cx="3168360" cy="7956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20"/>
          <p:cNvSpPr/>
          <p:nvPr/>
        </p:nvSpPr>
        <p:spPr>
          <a:xfrm>
            <a:off x="5054760" y="4195800"/>
            <a:ext cx="1726920" cy="55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21"/>
          <p:cNvSpPr/>
          <p:nvPr/>
        </p:nvSpPr>
        <p:spPr>
          <a:xfrm>
            <a:off x="6372360" y="4954680"/>
            <a:ext cx="409320" cy="573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6781680" y="39164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Scientific &amp; Engineering Practice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ivities that scientists and engineers engage in to either understand the world or solve a probl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781680" y="460368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epts in science and engineering that have broad importance within and across disciplines as well as relevance in people’s lives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6772320" y="5478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deas, such as 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ause and Effec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which are not specific to any one discipline but cut across them all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6" name="Elbow Connector 25"/>
          <p:cNvCxnSpPr/>
          <p:nvPr/>
        </p:nvCxnSpPr>
        <p:spPr>
          <a:xfrm rot="5400000">
            <a:off x="2675880" y="1269720"/>
            <a:ext cx="978840" cy="175680"/>
          </a:xfrm>
          <a:prstGeom prst="bentConnector3">
            <a:avLst>
              <a:gd name="adj1" fmla="val -183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137" name="Oval 26"/>
          <p:cNvSpPr/>
          <p:nvPr/>
        </p:nvSpPr>
        <p:spPr>
          <a:xfrm>
            <a:off x="5665680" y="3537000"/>
            <a:ext cx="79560" cy="7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traight Connector 27"/>
          <p:cNvSpPr/>
          <p:nvPr/>
        </p:nvSpPr>
        <p:spPr>
          <a:xfrm flipV="1">
            <a:off x="3186000" y="3209760"/>
            <a:ext cx="3629160" cy="36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traight Connector 28"/>
          <p:cNvSpPr/>
          <p:nvPr/>
        </p:nvSpPr>
        <p:spPr>
          <a:xfrm flipV="1">
            <a:off x="5734080" y="3209400"/>
            <a:ext cx="1071360" cy="336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traight Connector 29"/>
          <p:cNvSpPr/>
          <p:nvPr/>
        </p:nvSpPr>
        <p:spPr>
          <a:xfrm flipV="1">
            <a:off x="4305240" y="3209760"/>
            <a:ext cx="2509920" cy="17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30"/>
          <p:cNvSpPr/>
          <p:nvPr/>
        </p:nvSpPr>
        <p:spPr>
          <a:xfrm>
            <a:off x="6772320" y="3024360"/>
            <a:ext cx="228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Lowercase Letter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wercase letters at the end of practices, core ideas, and crosscutting Concepts designate which Performance expectation incorporates them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50"/>
          <p:cNvSpPr/>
          <p:nvPr/>
        </p:nvSpPr>
        <p:spPr>
          <a:xfrm>
            <a:off x="6781680" y="2313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Assessment Boundary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provides guidance about the scope of the performance expectation at a particular grade level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6772320" y="16016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Clarification Statement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statement tha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supplies exampl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additional clarification to the performance expectatio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ounded Rectangle 34"/>
          <p:cNvSpPr/>
          <p:nvPr/>
        </p:nvSpPr>
        <p:spPr>
          <a:xfrm flipV="1">
            <a:off x="3527280" y="2295000"/>
            <a:ext cx="2781360" cy="100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ounded Rectangle 35"/>
          <p:cNvSpPr/>
          <p:nvPr/>
        </p:nvSpPr>
        <p:spPr>
          <a:xfrm flipV="1">
            <a:off x="4865760" y="2743920"/>
            <a:ext cx="1442880" cy="87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traight Connector 36"/>
          <p:cNvSpPr/>
          <p:nvPr/>
        </p:nvSpPr>
        <p:spPr>
          <a:xfrm flipV="1">
            <a:off x="6237360" y="1782720"/>
            <a:ext cx="568080" cy="51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traight Connector 37"/>
          <p:cNvSpPr/>
          <p:nvPr/>
        </p:nvSpPr>
        <p:spPr>
          <a:xfrm flipV="1">
            <a:off x="6245280" y="2468520"/>
            <a:ext cx="536400" cy="26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4221000" y="3352680"/>
            <a:ext cx="79560" cy="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3105000" y="3538440"/>
            <a:ext cx="79560" cy="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20:21:29Z</dcterms:created>
  <dc:creator>Katie Van Horne</dc:creator>
  <dc:description/>
  <dc:language>en-US</dc:language>
  <cp:lastModifiedBy>McGrath Edward J</cp:lastModifiedBy>
  <dcterms:modified xsi:type="dcterms:W3CDTF">2013-06-19T14:02:41Z</dcterms:modified>
  <cp:revision>71</cp:revision>
  <dc:subject/>
  <dc:title>NSTA Webinar on Obtaining, Evaluating, and Communicating Information</dc:title>
</cp:coreProperties>
</file>